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712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6676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7320" cy="34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0" y="8685360"/>
            <a:ext cx="296712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559FDA-5706-4CE7-891E-45F6FF6A999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3FF027-6ED0-4C4B-ACE1-3B879BBF648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04F91C-718E-4516-9CB2-CBC7CAAE12B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A27F40-4F61-4424-932D-A99EEA811A0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CF89B9-EAFB-4FAE-935D-468C4CA9037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Chaque membre représente l’ensemb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DD2B44-AB33-493B-9833-63AB88E2ED0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DA2775-FB6D-4E99-85D3-07971644FBF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A488D2-536F-415F-9DF5-116AFE7BBA4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113FD3-9B0F-48ED-8CE9-5189F9F28B2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865B72-3EC0-4B39-833F-3B3AE96ED62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08A5FC-CD4D-4530-B318-4D803D5726F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93C9-B318-438D-8D53-EFEC5E45A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921B-16EF-4CCD-B3E2-B796E61E1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FE59-AA61-4A99-A5BF-FF7494F8A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AB37-4DCB-4639-AB0B-14D935146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CFF1-82E9-42C9-BF4D-207C02494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CF8A-3A41-49F0-A6D0-EE9D051F0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4C08-F7C6-4692-9BD8-E05F3997F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EB90-7048-4C94-B9F1-523A17AE1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0A57-8EC9-45F5-A102-382F9DBD5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C7B5-15FD-41A2-9CCD-8D0C71434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4075-96B0-4AB2-B669-DC9BD454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593A-18E2-434C-8B48-05132E47D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E1AB7AE-185C-47B7-9411-7231E1ADFEE9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rpfrance.eu/spip.php?article189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c.europa.eu/index_fr.ht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81260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ener des actions de plaidoyer en Europ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0000" y="3827520"/>
            <a:ext cx="6400800" cy="29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C’est possibl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Juristes-Solidarité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3419640" y="539640"/>
            <a:ext cx="251928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(Contre) - argument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tre (pro)positif et délivrer un message cl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haque association mène d’abord avec ses interlocuteurs nationaux et on se </a:t>
            </a:r>
            <a:r>
              <a:rPr b="0" i="1" lang="fr-FR" sz="3200" spc="-1" strike="noStrike">
                <a:solidFill>
                  <a:srgbClr val="000000"/>
                </a:solidFill>
                <a:latin typeface="Arial"/>
              </a:rPr>
              <a:t>debrief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en collectif europé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rouver les enjeux communs et éviter les discours proprement nationa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En quelques étapes 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72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nnaître les organes de décisions europé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Qui détient le pouvoir de décision en Europ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Quels mécanismes permettent de participer à la mise en place de la réglementation communautai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réer des alli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ssurer une veille des politiques qui concernent notre lut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dentifier les sources d’inform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11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11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11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Connaître les organes de décisions europée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57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LA COMMISSION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a commission : pouvoir d’initiative et gestionnaire, car elle a la responsabilité de mettre en œuvre les politiques et les décis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* Organe collégial (27 membres nommés pour 4 ans par les gouvernements des Etat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haque commissaire est responsable de l’ensemble  des décisions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rises par la commi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* Ses décisions sont acquises à la majorité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* Pour s’opposer à une proposition de décision ou de directive, il vaut mieux chercher une minorité de blocage : il faut donc trouver des alliés du côté de ressortissants d’autres pays pour que ceux-ci fassent pression sur les commissaires ressortissants de leurs pays. ( Chacun des membres d’une plateforme ou d’un regroupement doit donc se coordonner avec ses partenaire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* Un organe hiérarchisé: 23 directions générales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directions    divis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a compartimentation des tâches est extrême: il faut trouver le fonctionnaires en charge du dossi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3"/>
          <p:cNvSpPr/>
          <p:nvPr/>
        </p:nvSpPr>
        <p:spPr>
          <a:xfrm>
            <a:off x="395280" y="3141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Line 4"/>
          <p:cNvSpPr/>
          <p:nvPr/>
        </p:nvSpPr>
        <p:spPr>
          <a:xfrm>
            <a:off x="6119640" y="6119640"/>
            <a:ext cx="1796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>
            <a:off x="5040360" y="6119640"/>
            <a:ext cx="1792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8072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e Conseil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658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ff3366"/>
                </a:solidFill>
                <a:latin typeface="Arial"/>
              </a:rPr>
              <a:t>Identifier les fonctionnaires compétent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400"/>
              </a:spcBef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Les Ministères techniques de chaque Etat et leurs services assurent le travail préparatoire aux réunions du Conseil  à partir des textes préparés par la commis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n France, le pivot des questions européennes est un groupe attaché indirectement au services du 1</a:t>
            </a:r>
            <a:r>
              <a:rPr b="0" lang="fr-FR" sz="1600" spc="-1" strike="noStrike" baseline="30000">
                <a:solidFill>
                  <a:srgbClr val="000000"/>
                </a:solidFill>
                <a:latin typeface="Arial"/>
              </a:rPr>
              <a:t>er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Ministre, le Secrétariat Général du Comité Interministériel pour des questions de coopération économique européenne (20 aine de fonctionnaire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0" algn="just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400"/>
              </a:spcBef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La représentation des affaires permanentes des Etats à Bruxelles : ambassade des Etats auprès de l'UE (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es conseillers siègent dans groupes de travail de la commission).                                                         A sa tête, siège un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Représentant permanent,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résent à la COREPER ( comités des représentants permanents)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07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délégations régionales à Bruxel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3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a plupart des régions ont ouvert un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bureau de représentation à Bruxelles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soit à titre individuel, soit en se regroupant, comme le bureau Bretagne/Pays de la Loire/Poitou Charentes. </a:t>
            </a:r>
            <a:br>
              <a:rPr sz="1400"/>
            </a:b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es bureaux assurent une fonction de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représentation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défendent les intérêts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de leur région auprès des institutions communautaires. Ils ont également un rôle de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veille législative européenne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dans les domaines de compétence de leur région, et de diffusion au niveau loca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3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3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ouvent, il est possible de compter sur l’appui des représentations des 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régions pour avoir un soutien logistique ou une mise en lien avec les fonctionnaires europé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iste des délégations régionales pour la France avec les contact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rpfrance.eu/spip.php?article18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Vers qui se tourn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ite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a commission : </a:t>
            </a:r>
            <a:r>
              <a:rPr b="0" lang="fr-FR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ec.europa.eu/index_fr.htm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ien vers les DG : </a:t>
            </a:r>
            <a:r>
              <a:rPr b="0" lang="fr-FR" sz="1800" spc="-1" strike="noStrike">
                <a:solidFill>
                  <a:srgbClr val="ccccff"/>
                </a:solidFill>
                <a:latin typeface="Arial"/>
              </a:rPr>
              <a:t>http://ec.europa.eu/dgs_en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Qui contacter: </a:t>
            </a:r>
            <a:r>
              <a:rPr b="0" lang="fr-FR" sz="1800" spc="-1" strike="noStrike">
                <a:solidFill>
                  <a:srgbClr val="ccccff"/>
                </a:solidFill>
                <a:latin typeface="Arial"/>
              </a:rPr>
              <a:t>http://ec.europa.eu/civil_service/about/contact/index_en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A quel moment intervenir dans le processus d’adopti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mportant de connaître la base juridique sur laquelle s’appuie le texte qui est en cours d’adoption pour savoir quelle procédure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-décision, le parlement européen a un rôle prépondéran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jorité qualifiée, il faut s’attaquer aux gouverne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jorité sim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animité (plus facile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lus on intervient en amont, plus on a de chance de faire aboutir ses propositions, d’où l’importance de nouer de bons rapports avec des personnes à la Commiss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AutoShape 1"/>
          <p:cNvSpPr/>
          <p:nvPr/>
        </p:nvSpPr>
        <p:spPr>
          <a:xfrm>
            <a:off x="2879640" y="5400720"/>
            <a:ext cx="3419640" cy="53964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Le comité de conciliation examine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la position commune sur base des amendements parlementaire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AutoShape 2"/>
          <p:cNvSpPr/>
          <p:nvPr/>
        </p:nvSpPr>
        <p:spPr>
          <a:xfrm>
            <a:off x="2879640" y="900000"/>
            <a:ext cx="341964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position de la Commiss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AutoShape 3"/>
          <p:cNvSpPr/>
          <p:nvPr/>
        </p:nvSpPr>
        <p:spPr>
          <a:xfrm>
            <a:off x="2879640" y="1619280"/>
            <a:ext cx="341964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vis du Parlement Europé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2879640" y="2340000"/>
            <a:ext cx="341964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e conseil adopte une position commu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2879640" y="3060720"/>
            <a:ext cx="341964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Délai 3  moi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Le PE amende le texte à la majorité des membre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2879640" y="3780000"/>
            <a:ext cx="341964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a commission donne son avis pour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es amendem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2879640" y="4500720"/>
            <a:ext cx="341964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Le conseil approuve ne partie les amendements :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procédure de conciliation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Débute dans un délai de 6 semaine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2879640" y="6119640"/>
            <a:ext cx="3419640" cy="72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Dans un délai de 6 semaines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Le comité de conciliation approuve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un projet commu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inon, rejet définitif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Line 9"/>
          <p:cNvSpPr/>
          <p:nvPr/>
        </p:nvSpPr>
        <p:spPr>
          <a:xfrm>
            <a:off x="4680000" y="1260360"/>
            <a:ext cx="14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Line 10"/>
          <p:cNvSpPr/>
          <p:nvPr/>
        </p:nvSpPr>
        <p:spPr>
          <a:xfrm>
            <a:off x="4680000" y="1979640"/>
            <a:ext cx="14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Line 11"/>
          <p:cNvSpPr/>
          <p:nvPr/>
        </p:nvSpPr>
        <p:spPr>
          <a:xfrm>
            <a:off x="4680000" y="2700360"/>
            <a:ext cx="14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Line 12"/>
          <p:cNvSpPr/>
          <p:nvPr/>
        </p:nvSpPr>
        <p:spPr>
          <a:xfrm>
            <a:off x="4680000" y="3419640"/>
            <a:ext cx="14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Line 13"/>
          <p:cNvSpPr/>
          <p:nvPr/>
        </p:nvSpPr>
        <p:spPr>
          <a:xfrm>
            <a:off x="4680000" y="4140360"/>
            <a:ext cx="14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Line 14"/>
          <p:cNvSpPr/>
          <p:nvPr/>
        </p:nvSpPr>
        <p:spPr>
          <a:xfrm>
            <a:off x="4680000" y="5040360"/>
            <a:ext cx="14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Line 15"/>
          <p:cNvSpPr/>
          <p:nvPr/>
        </p:nvSpPr>
        <p:spPr>
          <a:xfrm>
            <a:off x="4680000" y="5940360"/>
            <a:ext cx="1440" cy="1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16"/>
          <p:cNvSpPr/>
          <p:nvPr/>
        </p:nvSpPr>
        <p:spPr>
          <a:xfrm>
            <a:off x="6659640" y="1440000"/>
            <a:ext cx="2340000" cy="539640"/>
          </a:xfrm>
          <a:prstGeom prst="roundRect">
            <a:avLst>
              <a:gd name="adj" fmla="val 292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Approbation par le Conseil de tous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les amendements parlementaires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ou pas  d'amendement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Line 17"/>
          <p:cNvSpPr/>
          <p:nvPr/>
        </p:nvSpPr>
        <p:spPr>
          <a:xfrm>
            <a:off x="6300720" y="1800360"/>
            <a:ext cx="3603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18"/>
          <p:cNvSpPr/>
          <p:nvPr/>
        </p:nvSpPr>
        <p:spPr>
          <a:xfrm>
            <a:off x="6659640" y="2160720"/>
            <a:ext cx="2160360" cy="900000"/>
          </a:xfrm>
          <a:prstGeom prst="roundRect">
            <a:avLst>
              <a:gd name="adj" fmla="val 176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élai: 3 mois Le Parle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rouve la position commu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u ne se prononce pas : ac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dopt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Line 19"/>
          <p:cNvSpPr/>
          <p:nvPr/>
        </p:nvSpPr>
        <p:spPr>
          <a:xfrm>
            <a:off x="6300720" y="2519280"/>
            <a:ext cx="3603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20"/>
          <p:cNvSpPr/>
          <p:nvPr/>
        </p:nvSpPr>
        <p:spPr>
          <a:xfrm>
            <a:off x="6480000" y="3600360"/>
            <a:ext cx="2519640" cy="900360"/>
          </a:xfrm>
          <a:prstGeom prst="roundRect">
            <a:avLst>
              <a:gd name="adj" fmla="val 176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Le Conseil adopte les amendement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du Parlement (intégré par la commission à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la majorité qualifiée,sinon à l'unanimité)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cte adopté: délai 3 moi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21"/>
          <p:cNvSpPr/>
          <p:nvPr/>
        </p:nvSpPr>
        <p:spPr>
          <a:xfrm>
            <a:off x="6300720" y="3959280"/>
            <a:ext cx="179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22"/>
          <p:cNvSpPr/>
          <p:nvPr/>
        </p:nvSpPr>
        <p:spPr>
          <a:xfrm>
            <a:off x="6480000" y="5940360"/>
            <a:ext cx="2519640" cy="900000"/>
          </a:xfrm>
          <a:prstGeom prst="roundRect">
            <a:avLst>
              <a:gd name="adj" fmla="val 176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élai: 6 semai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e PE à la majorité qualifié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es suffrages et le Consei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à la majorité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qualifiée approuve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Line 23"/>
          <p:cNvSpPr/>
          <p:nvPr/>
        </p:nvSpPr>
        <p:spPr>
          <a:xfrm>
            <a:off x="6300720" y="6480000"/>
            <a:ext cx="1792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24"/>
          <p:cNvSpPr/>
          <p:nvPr/>
        </p:nvSpPr>
        <p:spPr>
          <a:xfrm>
            <a:off x="179280" y="2160720"/>
            <a:ext cx="2340000" cy="720720"/>
          </a:xfrm>
          <a:prstGeom prst="roundRect">
            <a:avLst>
              <a:gd name="adj" fmla="val 218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élai : 3 moi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e Parlement rejette à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a majorité absolue des memb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25"/>
          <p:cNvSpPr/>
          <p:nvPr/>
        </p:nvSpPr>
        <p:spPr>
          <a:xfrm flipH="1">
            <a:off x="2514240" y="2519280"/>
            <a:ext cx="3697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26"/>
          <p:cNvSpPr/>
          <p:nvPr/>
        </p:nvSpPr>
        <p:spPr>
          <a:xfrm>
            <a:off x="0" y="5759280"/>
            <a:ext cx="2700360" cy="1098720"/>
          </a:xfrm>
          <a:prstGeom prst="roundRect">
            <a:avLst>
              <a:gd name="adj" fmla="val 144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élai: 6 semaines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Le PE à la majorité absolue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des suffrages et/ ou le Conseil à la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majorité qualifiée n'approuvent pas le texte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Line 27"/>
          <p:cNvSpPr/>
          <p:nvPr/>
        </p:nvSpPr>
        <p:spPr>
          <a:xfrm flipH="1">
            <a:off x="2695680" y="6480000"/>
            <a:ext cx="1886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28"/>
          <p:cNvSpPr/>
          <p:nvPr/>
        </p:nvSpPr>
        <p:spPr>
          <a:xfrm>
            <a:off x="720720" y="900000"/>
            <a:ext cx="1619280" cy="1079640"/>
          </a:xfrm>
          <a:prstGeom prst="wedgeEllipseCallout">
            <a:avLst>
              <a:gd name="adj1" fmla="val 79611"/>
              <a:gd name="adj2" fmla="val -29611"/>
            </a:avLst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onctionnaires en charge dossier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29"/>
          <p:cNvSpPr/>
          <p:nvPr/>
        </p:nvSpPr>
        <p:spPr>
          <a:xfrm>
            <a:off x="5759280" y="179280"/>
            <a:ext cx="1619280" cy="720720"/>
          </a:xfrm>
          <a:prstGeom prst="wedgeEllipseCallout">
            <a:avLst>
              <a:gd name="adj1" fmla="val -100430"/>
              <a:gd name="adj2" fmla="val 157995"/>
            </a:avLst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mmis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es aff. en cours // Migreuro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30"/>
          <p:cNvSpPr/>
          <p:nvPr/>
        </p:nvSpPr>
        <p:spPr>
          <a:xfrm>
            <a:off x="179280" y="3240000"/>
            <a:ext cx="1619280" cy="1079640"/>
          </a:xfrm>
          <a:prstGeom prst="wedgeEllipseCallout">
            <a:avLst>
              <a:gd name="adj1" fmla="val 108009"/>
              <a:gd name="adj2" fmla="val -49203"/>
            </a:avLst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roposer des amendements en lien avec députés alliés, de sa rég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31"/>
          <p:cNvSpPr/>
          <p:nvPr/>
        </p:nvSpPr>
        <p:spPr>
          <a:xfrm>
            <a:off x="3419640" y="360360"/>
            <a:ext cx="2339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a co-décis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32"/>
          <p:cNvSpPr/>
          <p:nvPr/>
        </p:nvSpPr>
        <p:spPr>
          <a:xfrm>
            <a:off x="720720" y="463680"/>
            <a:ext cx="1979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j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3"/>
          <p:cNvSpPr/>
          <p:nvPr/>
        </p:nvSpPr>
        <p:spPr>
          <a:xfrm>
            <a:off x="6659640" y="720720"/>
            <a:ext cx="216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pprob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28160"/>
            <a:ext cx="822636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e procurer l’information utile à l’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Journal officiel de l’Union Européenne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ccccff"/>
                </a:solidFill>
                <a:latin typeface="Arial"/>
              </a:rPr>
              <a:t>http://eur-lex.europa.eu/JOIndex.do?ihmlang=fr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ous les actes de l’UE (déjà adoptés) Quasiment un par jour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ulletins des Communautés Européenn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ccccff"/>
                </a:solidFill>
                <a:latin typeface="Arial"/>
              </a:rPr>
              <a:t>http://europa.eu/bulletin/fr/bullset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ctivités de l’UE par domaines (rapports..). 1 par mois, mais sort environ 2 mois plus tar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entre de ressources de l’Union Européen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ccccff"/>
                </a:solidFill>
                <a:latin typeface="Arial"/>
              </a:rPr>
              <a:t>http://www.cees-europe.fr/fr/liens/infos.ph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iste les bulletins d’informations et les revues disponibles sur l’Eur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our les français, les travaux de la commission des affaires européennes de l’assemblée nation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ccccff"/>
                </a:solidFill>
                <a:latin typeface="Arial"/>
              </a:rPr>
              <a:t>http://www.assemblee-nationale.fr/13/europe/index-propositions2.a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recense les propositions de résolution portant sur des projets de textes européens déposées par les député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__</dc:creator>
  <dc:description/>
  <dc:language>en-US</dc:language>
  <cp:lastModifiedBy>Pascale Thys</cp:lastModifiedBy>
  <dcterms:modified xsi:type="dcterms:W3CDTF">2014-02-18T14:51:02Z</dcterms:modified>
  <cp:revision>1</cp:revision>
  <dc:subject/>
  <dc:title>Mener des actions de plaidoyer en Europe?</dc:title>
</cp:coreProperties>
</file>