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9F-B8C5-496F-83EF-23A7D111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385-624E-47ED-B1A9-E61AA480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561-FDB6-459B-ACE7-76798942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F42-07B1-4145-A52F-C50E98A5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DF2E-4495-4ED3-A7CD-39B80888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BE5-581E-483D-A3DC-561A589E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1152-F44F-4C23-9F38-2D132E1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59F4-B58A-4702-AE4E-9DDE18F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6E68-F83E-4299-BA73-5F7ACD32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6966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577C-CBA2-4A8E-AE01-B773CA39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8E23-9647-4228-A571-985D0C6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21D-7A92-4A19-9019-08B44FB2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9261-0060-4616-8FAB-BDA4E67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7AA6-66C9-4B12-9F90-C61B9AB1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7ED-FD7E-421D-9E43-1F2D89F7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6031-7908-4AEA-8772-08B523BA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8B4A-F699-4A2C-AC5C-B371326A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EE9-548E-4474-83B2-34CF28C9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DFB-D006-425B-99AB-C18B88B0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B6F-85B1-4585-88C0-C1990D7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6966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E37-4A13-41EB-8E09-63B351C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B7F-16DE-41FF-87C1-3228ECA6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927-7462-4BA5-B3BC-A12550B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C46-5668-4AD0-A856-78C2D1F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936-D7FF-4174-9947-653B6F8B523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CE3-E00F-42B3-8302-457911B39A6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mment légitimer ses revendication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419720"/>
            <a:ext cx="5640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à travers l’action collective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C - Légitimer ses revendications malgré le rapport de force (justice ou légalité ?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2131560"/>
            <a:ext cx="738648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pposer légitimité de l’action (au sens de ce qui est légal - autorisé) et légitimité des revendications (au sens de ce qui est ju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égitimer l’action directe (la lutte) pour aboutir à un processus de négoci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poser l’idée de ‘désobéissance civique’ si la cause est juste pour le group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5410080"/>
            <a:ext cx="5486400" cy="82548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= Travailler avec le groupe la légitimé de ses revendications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638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hase IV : légitimer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ar la mobilisation extern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8000" y="2292480"/>
            <a:ext cx="7536600" cy="2342520"/>
            <a:chOff x="108000" y="2292480"/>
            <a:chExt cx="7536600" cy="2342520"/>
          </a:xfrm>
        </p:grpSpPr>
        <p:cxnSp>
          <p:nvCxnSpPr>
            <p:cNvPr id="250" name="_s14351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5225760" y="1904400"/>
              <a:ext cx="228960" cy="292788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53" name="_s14349"/>
            <p:cNvCxnSpPr>
              <a:stCxn id="254" idx="0"/>
              <a:endCxn id="252" idx="2"/>
            </p:cNvCxnSpPr>
            <p:nvPr/>
          </p:nvCxnSpPr>
          <p:spPr>
            <a:xfrm flipV="1" rot="16200000">
              <a:off x="4250160" y="2880000"/>
              <a:ext cx="228960" cy="97668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55" name="_s14347"/>
            <p:cNvCxnSpPr>
              <a:stCxn id="256" idx="0"/>
              <a:endCxn id="252" idx="2"/>
            </p:cNvCxnSpPr>
            <p:nvPr/>
          </p:nvCxnSpPr>
          <p:spPr>
            <a:xfrm flipH="1" flipV="1" rot="5400000">
              <a:off x="3274560" y="2880720"/>
              <a:ext cx="228960" cy="97524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57" name="_s14345"/>
            <p:cNvCxnSpPr>
              <a:stCxn id="258" idx="0"/>
              <a:endCxn id="252" idx="2"/>
            </p:cNvCxnSpPr>
            <p:nvPr/>
          </p:nvCxnSpPr>
          <p:spPr>
            <a:xfrm flipH="1" flipV="1" rot="5400000">
              <a:off x="2299320" y="1905480"/>
              <a:ext cx="228960" cy="2925720"/>
            </a:xfrm>
            <a:prstGeom prst="bentConnector3">
              <a:avLst>
                <a:gd name="adj1" fmla="val 49921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108000" y="2292480"/>
              <a:ext cx="737964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d47d"/>
                  </a:solidFill>
                  <a:latin typeface="Geneva"/>
                </a:rPr>
                <a:t>PROCESSUS EXTERNE DE LEGITIMATION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2" name="_s14343"/>
            <p:cNvSpPr/>
            <p:nvPr/>
          </p:nvSpPr>
          <p:spPr>
            <a:xfrm>
              <a:off x="2151360" y="2768400"/>
              <a:ext cx="3449880" cy="48564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Geneva"/>
                </a:rPr>
                <a:t>ACTIONS MENEES</a:t>
              </a:r>
              <a:endParaRPr b="0" lang="en-US" sz="13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Geneva"/>
                </a:rPr>
                <a:t>PAR LE COLLECTIF</a:t>
              </a:r>
              <a:endParaRPr b="0" lang="en-US" sz="13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8" name="_s14344"/>
            <p:cNvSpPr/>
            <p:nvPr/>
          </p:nvSpPr>
          <p:spPr>
            <a:xfrm>
              <a:off x="108000" y="3483000"/>
              <a:ext cx="168408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FAIRE EVOLU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 CADRE LEGA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6" name="_s14346"/>
            <p:cNvSpPr/>
            <p:nvPr/>
          </p:nvSpPr>
          <p:spPr>
            <a:xfrm>
              <a:off x="2059200" y="3483000"/>
              <a:ext cx="168372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NTERPELL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S ACTEURS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DU DROIT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B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4" name="_s14348"/>
            <p:cNvSpPr/>
            <p:nvPr/>
          </p:nvSpPr>
          <p:spPr>
            <a:xfrm>
              <a:off x="4009680" y="3483000"/>
              <a:ext cx="168372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RECOURI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 UN TIERS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(EXPERT)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C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51" name="_s14350"/>
            <p:cNvSpPr/>
            <p:nvPr/>
          </p:nvSpPr>
          <p:spPr>
            <a:xfrm>
              <a:off x="5960520" y="3483000"/>
              <a:ext cx="1684080" cy="11520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480" rIns="4248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CRE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 </a:t>
              </a: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UN NOUVEL ESPAC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E LEGITIM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E L'AC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COLLECTIV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87240" y="5451480"/>
            <a:ext cx="6028200" cy="82548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Times New Roman"/>
              </a:rPr>
              <a:t>Agir dans la légitimité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Times New Roman"/>
              </a:rPr>
              <a:t>(cadre légal ou action collective auto-légitimée)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57150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 - Faire évoluer le cadre légal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tiliser un autre cadre légal reconnu (ex : passer du cadre ‘logement’ au cadre ‘conservation du patrimoine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tiliser la jurisprudence - faire jurisprud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éer un nouveau cadre législatif (via par exemple un nouvel arrêté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difier la Loi via des pressions politiques (utiliser les medi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 - Interpeller les acteurs du droit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ler à la rencontre de la police loca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nsibiliser les fonctionnaires des administrations sur leurs marges de manœuvre face à la Lo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difier le comportement des administrations en leur montrant qu’on connaît la Lo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nsibiliser des tiers (voisins, personnalités connue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ler à la rencontre des acteurs ‘faiseurs’ de droit : les parlementaires (niveau national et même niveau européen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C - Recourir à un tiers (expert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 acteur du droit (avocat, juriste,…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e association qui bénéficie d’une certaine notoriété auprès des tribunau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 militants bénéficiant d’une double casquette (par exemple ayant aussi une responsabilité politique au niveau loc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e simple personne ‘extérieure’ qui permet par sa présence de changer les comportements (d’une administration) ou les rapports de for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4568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D - Créer un nouvel espace de légitimation de l’action collective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parfois illégale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7386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nter d’instaurer des procédures de traitement collectif des dossi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raindre les tribunaux à se positionner face à l’action collect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i tout a été tenté sans succès, admettre l’instauration de la désobéissance civiq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5029200"/>
            <a:ext cx="4496040" cy="119124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= Permettre aux plus précaires qui ne se seraient pas battus seuls d’être portés par le group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4100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3805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estions à prendre…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… ou à laiss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8648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Difficile parfois de parler de légitimité acquise parce que la Loi ne change pas les mentalités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En matière de légitimation, rien n’est jamais acquis, jamais sûr, même après des mois de lutte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Comment légitimer les zones de non droit? (les sans-papiers, les illégaux)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 Peut-on légitimer une action en utilisant les ‘vides juridiques’ à son profit ? 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oordonnées des partenair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1484280"/>
            <a:ext cx="3311640" cy="2160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1700280"/>
            <a:ext cx="29415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7d47d"/>
                </a:solidFill>
                <a:latin typeface="Arial"/>
              </a:rPr>
              <a:t>JURISTES SOLIDARITES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5, Rue de la Révolution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93100 Montreuil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Franc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T : +33/1/48.51.39.91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Jur-sol@globenet.org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11640" y="1484280"/>
            <a:ext cx="3384720" cy="21607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3933720"/>
            <a:ext cx="3384720" cy="2089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3933720"/>
            <a:ext cx="3311640" cy="2089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84720" y="1700280"/>
            <a:ext cx="331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7d47d"/>
                </a:solidFill>
                <a:latin typeface="Arial"/>
              </a:rPr>
              <a:t>HABITAT &amp; PARTICIPATION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Place des Peintres 1 Bte 4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1348 Louvain-la-Neuv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Belgiqu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T : +32/10/45.06.04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hep@tvcablenet.be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7200" y="4218120"/>
            <a:ext cx="323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7d47d"/>
                </a:solidFill>
                <a:latin typeface="Arial"/>
              </a:rPr>
              <a:t>CAPODARCO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Via Lungro, 3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00178 Roma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T : +39/06/712.800.80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f1311"/>
                </a:solidFill>
                <a:latin typeface="Arial"/>
              </a:rPr>
              <a:t>mrosariacrucioli@katamail.com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84600" y="4076640"/>
            <a:ext cx="2651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7d47d"/>
                </a:solidFill>
                <a:latin typeface="Arial"/>
              </a:rPr>
              <a:t>FUNDACION IBEROAMERICANA DE DERECHOS HUMANOS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Universitad Pablo de Olavide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Carretera de Utrera, km 1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41013 Sevilla - Espana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T: +34/954/34.89.23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2f1311"/>
                </a:solidFill>
                <a:latin typeface="Arial"/>
              </a:rPr>
              <a:t>Eventos-2003@yahoo.es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80" y="6237360"/>
            <a:ext cx="7761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4f9d4f"/>
                </a:solidFill>
                <a:latin typeface="Arial"/>
              </a:rPr>
              <a:t>Travaux réalisés avec le soutien du programme européen SOCRATES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tapes de la démarch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3922200"/>
            <a:ext cx="54403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éfini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ément(s) déclencheur(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hase d’identific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hase de mobilisation inter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hase de mobilisation exter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765520" y="1598760"/>
            <a:ext cx="27208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Définitions (1)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Ce qui est légitime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Juste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= conforme à l’équité, au droit natur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Perm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= admissible, justifié par le bon se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7d47d"/>
                </a:solidFill>
                <a:latin typeface="Arial"/>
              </a:rPr>
              <a:t>Légal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= juridiquement fondé, consacré par la Loi ou reconnu conforme au dro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Dictionnaire Petit Robert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Définitions (2)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Se légitimer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sser d’un sentiment d’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injustice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identifié collectivement à des actions collectives pour faire face à un problème de droit (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illégalité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) identifié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648320"/>
            <a:ext cx="1904760" cy="182880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4190400"/>
            <a:ext cx="1905120" cy="1600200"/>
          </a:xfrm>
          <a:prstGeom prst="triangle">
            <a:avLst>
              <a:gd name="adj" fmla="val 53245"/>
            </a:avLst>
          </a:pr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4648320"/>
            <a:ext cx="685800" cy="11430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441972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ffff9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0292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86728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6960" y="4308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INJUST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59640" y="49197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06240" y="5680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ILLEGA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30760" y="4267080"/>
            <a:ext cx="159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DROIT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NATURE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2520" y="5486400"/>
            <a:ext cx="11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DROIT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LEGA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lément(s) déclencheur(s)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433520" y="2308320"/>
            <a:ext cx="4946760" cy="2278080"/>
            <a:chOff x="1433520" y="2308320"/>
            <a:chExt cx="4946760" cy="2278080"/>
          </a:xfrm>
        </p:grpSpPr>
        <p:cxnSp>
          <p:nvCxnSpPr>
            <p:cNvPr id="214" name="_s8203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4430520" y="2847600"/>
              <a:ext cx="229320" cy="1276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17" name="_s8201"/>
            <p:cNvCxnSpPr>
              <a:stCxn id="218" idx="0"/>
              <a:endCxn id="216" idx="2"/>
            </p:cNvCxnSpPr>
            <p:nvPr/>
          </p:nvCxnSpPr>
          <p:spPr>
            <a:xfrm flipH="1" flipV="1" rot="5400000">
              <a:off x="3153600" y="2847960"/>
              <a:ext cx="229320" cy="12765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19" name=""/>
            <p:cNvSpPr/>
            <p:nvPr/>
          </p:nvSpPr>
          <p:spPr>
            <a:xfrm>
              <a:off x="1571760" y="2308320"/>
              <a:ext cx="480060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7d47d"/>
                  </a:solidFill>
                  <a:latin typeface="Geneva"/>
                </a:rPr>
                <a:t> </a:t>
              </a:r>
              <a:r>
                <a:rPr b="0" lang="fr-FR" sz="2400" spc="-1" strike="noStrike">
                  <a:solidFill>
                    <a:srgbClr val="f7d47d"/>
                  </a:solidFill>
                  <a:latin typeface="Geneva"/>
                </a:rPr>
                <a:t>= SENTIMENT D'INJUSTICE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6" name="_s8199"/>
            <p:cNvSpPr/>
            <p:nvPr/>
          </p:nvSpPr>
          <p:spPr>
            <a:xfrm>
              <a:off x="3157560" y="2914920"/>
              <a:ext cx="1498680" cy="457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NJUSTICE VECU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DROIT NATUR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8" name="_s8200"/>
            <p:cNvSpPr/>
            <p:nvPr/>
          </p:nvSpPr>
          <p:spPr>
            <a:xfrm>
              <a:off x="1433520" y="3600720"/>
              <a:ext cx="2394000" cy="98568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VECU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PERSONN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Ex :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J'ai été expulsé de mon logement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par mon propriétair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5" name="_s8202"/>
            <p:cNvSpPr/>
            <p:nvPr/>
          </p:nvSpPr>
          <p:spPr>
            <a:xfrm>
              <a:off x="3986280" y="3600720"/>
              <a:ext cx="2394000" cy="98568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VECU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COLLECTIF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Ex :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Ils sont en trai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de démolir notre parc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hase II = identifica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0920" y="2205000"/>
            <a:ext cx="7235280" cy="2465280"/>
            <a:chOff x="250920" y="2205000"/>
            <a:chExt cx="7235280" cy="2465280"/>
          </a:xfrm>
        </p:grpSpPr>
        <p:cxnSp>
          <p:nvCxnSpPr>
            <p:cNvPr id="222" name="_s9227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4445640" y="2731680"/>
              <a:ext cx="229320" cy="1311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25" name="_s9225"/>
            <p:cNvCxnSpPr>
              <a:stCxn id="226" idx="0"/>
              <a:endCxn id="224" idx="2"/>
            </p:cNvCxnSpPr>
            <p:nvPr/>
          </p:nvCxnSpPr>
          <p:spPr>
            <a:xfrm flipH="1" flipV="1" rot="5400000">
              <a:off x="3134520" y="2730960"/>
              <a:ext cx="229320" cy="1313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27" name=""/>
            <p:cNvSpPr/>
            <p:nvPr/>
          </p:nvSpPr>
          <p:spPr>
            <a:xfrm>
              <a:off x="250920" y="2205000"/>
              <a:ext cx="723528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7d47d"/>
                  </a:solidFill>
                  <a:latin typeface="Geneva"/>
                </a:rPr>
                <a:t>DE L'INJUSTICE ET DU GROUPE CIBLE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4" name="_s9223"/>
            <p:cNvSpPr/>
            <p:nvPr/>
          </p:nvSpPr>
          <p:spPr>
            <a:xfrm>
              <a:off x="3438720" y="2816280"/>
              <a:ext cx="931320" cy="457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NJUSTIC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VECU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6" name="_s9224"/>
            <p:cNvSpPr/>
            <p:nvPr/>
          </p:nvSpPr>
          <p:spPr>
            <a:xfrm>
              <a:off x="1357200" y="3502080"/>
              <a:ext cx="2470680" cy="1168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IDENTIFIC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f1311"/>
                  </a:solidFill>
                  <a:latin typeface="Geneva"/>
                </a:rPr>
                <a:t>D'UN SENTIMENT COMMU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f1311"/>
                  </a:solidFill>
                  <a:latin typeface="Geneva"/>
                </a:rPr>
                <a:t>ou comment pass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f1311"/>
                  </a:solidFill>
                  <a:latin typeface="Geneva"/>
                </a:rPr>
                <a:t>d'un sentiment/vécu individu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f1311"/>
                  </a:solidFill>
                  <a:latin typeface="Geneva"/>
                </a:rPr>
                <a:t>à un sentiment/vécu collectif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3" name="_s9226"/>
            <p:cNvSpPr/>
            <p:nvPr/>
          </p:nvSpPr>
          <p:spPr>
            <a:xfrm>
              <a:off x="3980520" y="3502080"/>
              <a:ext cx="2471040" cy="116820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IDENTIFIC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DU GROUPE CIBLE CONCERN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ou qui se reconnaît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dans le problèm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Geneva"/>
                </a:rPr>
                <a:t>d'injustice énoncé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hase III = légitimer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ar la mobilisation intern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91920" y="5451480"/>
            <a:ext cx="4839480" cy="82548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Passer d’un sentiment d’injustic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à l’identification du problème de droit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7150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58920" y="2278080"/>
            <a:ext cx="7263720" cy="2190600"/>
            <a:chOff x="358920" y="2278080"/>
            <a:chExt cx="7263720" cy="2190600"/>
          </a:xfrm>
        </p:grpSpPr>
        <p:cxnSp>
          <p:nvCxnSpPr>
            <p:cNvPr id="232" name="_s10256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5105880" y="2157120"/>
              <a:ext cx="229320" cy="24598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35" name="_s10254"/>
            <p:cNvCxnSpPr>
              <a:stCxn id="236" idx="0"/>
              <a:endCxn id="234" idx="2"/>
            </p:cNvCxnSpPr>
            <p:nvPr/>
          </p:nvCxnSpPr>
          <p:spPr>
            <a:xfrm flipV="1">
              <a:off x="3990960" y="3272400"/>
              <a:ext cx="1080" cy="229320"/>
            </a:xfrm>
            <a:prstGeom prst="bentConnector2">
              <a:avLst/>
            </a:prstGeom>
            <a:ln w="12600">
              <a:solidFill>
                <a:srgbClr val="2f1311"/>
              </a:solidFill>
              <a:miter/>
            </a:ln>
          </p:spPr>
        </p:cxnSp>
        <p:cxnSp>
          <p:nvCxnSpPr>
            <p:cNvPr id="237" name="_s10252"/>
            <p:cNvCxnSpPr>
              <a:stCxn id="238" idx="0"/>
              <a:endCxn id="234" idx="2"/>
            </p:cNvCxnSpPr>
            <p:nvPr/>
          </p:nvCxnSpPr>
          <p:spPr>
            <a:xfrm flipH="1" flipV="1" rot="5400000">
              <a:off x="2647800" y="2157840"/>
              <a:ext cx="229320" cy="24584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2f1311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358920" y="2278080"/>
              <a:ext cx="6950520" cy="423720"/>
            </a:xfrm>
            <a:prstGeom prst="rect">
              <a:avLst/>
            </a:prstGeom>
            <a:noFill/>
            <a:ln w="9360">
              <a:solidFill>
                <a:srgbClr val="2f1311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d47d"/>
                  </a:solidFill>
                  <a:latin typeface="Geneva"/>
                </a:rPr>
                <a:t>PROCESSUS INTERNE DE LEGITIMATION</a:t>
              </a: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4" name="_s10250"/>
            <p:cNvSpPr/>
            <p:nvPr/>
          </p:nvSpPr>
          <p:spPr>
            <a:xfrm>
              <a:off x="2695680" y="2793960"/>
              <a:ext cx="2589840" cy="4791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Geneva"/>
                </a:rPr>
                <a:t>ACTIONS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Geneva"/>
                </a:rPr>
                <a:t>MENEES PAR LE COLLECTIF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8" name="_s10251"/>
            <p:cNvSpPr/>
            <p:nvPr/>
          </p:nvSpPr>
          <p:spPr>
            <a:xfrm>
              <a:off x="358920" y="3501720"/>
              <a:ext cx="2346840" cy="9669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GITIMER LE GROUP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EN TANT QUE TEL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6" name="_s10253"/>
            <p:cNvSpPr/>
            <p:nvPr/>
          </p:nvSpPr>
          <p:spPr>
            <a:xfrm>
              <a:off x="2817360" y="3501720"/>
              <a:ext cx="2346840" cy="9669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APPRENDRE A FORMUL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SES PROPRES ALTERNATIVES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B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3" name="_s10255"/>
            <p:cNvSpPr/>
            <p:nvPr/>
          </p:nvSpPr>
          <p:spPr>
            <a:xfrm>
              <a:off x="5275800" y="3501720"/>
              <a:ext cx="2346840" cy="966960"/>
            </a:xfrm>
            <a:prstGeom prst="rect">
              <a:avLst/>
            </a:prstGeom>
            <a:solidFill>
              <a:srgbClr val="d5b7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GITIMER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SA REVENDICATION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MALGR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LES RAPPORTS DE FORCE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Geneva"/>
                </a:rPr>
                <a:t>C</a:t>
              </a:r>
              <a:endParaRPr b="0" lang="en-US" sz="12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 - Légitimer le groupe en tant que tel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duire le langage juridique souvent complexe en langage sim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 former à la compréhension des textes de dr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aborer en interne un procédure, un règlement intérieu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vailler sur l’image des personnes (si image négative = plus facile de violer leurs droits élémentaire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pprendre à légitimer son expérience face à la Lo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B - Apprendre à formuler ses propres alternatives face à un problèm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979640"/>
            <a:ext cx="738648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aborer ses solutions face à un problème et les médiatis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émontrer par l’action que c’est possible lorsque le discours veut démontrer l’impossibilité d’une proposi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dentifier des personnes relais qui seront capables de défendre ces alternatives face aux autorités compéten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21:33:21Z</dcterms:created>
  <dc:creator>yves</dc:creator>
  <dc:description/>
  <dc:language>en-US</dc:language>
  <cp:lastModifiedBy>pascale</cp:lastModifiedBy>
  <dcterms:modified xsi:type="dcterms:W3CDTF">2006-12-19T14:25:09Z</dcterms:modified>
  <cp:revision>14</cp:revision>
  <dc:subject/>
  <dc:title>Comment légitimer ses revendications</dc:title>
</cp:coreProperties>
</file>