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A00-026D-4579-BD54-D4C0520C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6FF-BF55-4385-85BF-95205A7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C0A-D0CC-4493-9AB3-A9D40C0D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098-3586-4B8F-AA10-272385D6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A099-7E23-4304-A529-F67EC4F1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590-5DAC-44F0-9FAD-DBEC0E07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D5B4-2E89-4061-B8C0-B27652C1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E96-FECC-4890-8496-4D3422A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D5C-DC8D-4663-8BFB-02EDE04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966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C6F-148D-4729-B3A5-9C2408F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50BE-9311-45FF-AF66-BBB59185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406-6055-4B82-8E34-8530C2A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084-44C4-4BC5-BB17-685A05C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EEA4-D9DF-4150-BF9A-7A558CC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37D6-BAFB-448B-85CC-6D9C90E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C33-381A-431C-8909-94AC3894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3DE-5051-4262-93E2-F2CF5A94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BD9-D17E-4576-B3DC-3128C06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47C-AB83-4490-9CF1-598BDB6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36A-7183-406F-910C-3BE5141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966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FA2-3D2A-45E7-A6EA-CFC3773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6C6-A61F-4E39-98CF-C33AA11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1AE-6CF5-4ACE-8587-B6DB090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DFF-2DF9-4807-B742-C6E7EE3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4A7-0539-4D1E-8938-6AE1B491811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BDC8-0135-4A56-BF77-8A4DAEB0302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ment légitimer ses revendication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419720"/>
            <a:ext cx="5640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à travers l’action collective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 - Légitimer ses revendications malgré le rapport de force (justice ou légalité ?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2131560"/>
            <a:ext cx="738648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pposer légitimité de l’action (au sens de ce qui est légal - autorisé) et légitimité des revendications (au sens de ce qui est ju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égitimer l’action directe (la lutte) pour aboutir à un processus de négoci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poser l’idée de ‘désobéissance civique’ si la cause est juste pour le grou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5410080"/>
            <a:ext cx="548640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= Travailler avec le groupe la légitimé de ses revendications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638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V : légitimer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ar la mobilisation exter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8000" y="2292480"/>
            <a:ext cx="7536600" cy="2342520"/>
            <a:chOff x="108000" y="2292480"/>
            <a:chExt cx="7536600" cy="2342520"/>
          </a:xfrm>
        </p:grpSpPr>
        <p:cxnSp>
          <p:nvCxnSpPr>
            <p:cNvPr id="250" name="_s14351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5225760" y="1904400"/>
              <a:ext cx="228960" cy="292788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3" name="_s14349"/>
            <p:cNvCxnSpPr>
              <a:stCxn id="254" idx="0"/>
              <a:endCxn id="252" idx="2"/>
            </p:cNvCxnSpPr>
            <p:nvPr/>
          </p:nvCxnSpPr>
          <p:spPr>
            <a:xfrm flipV="1" rot="16200000">
              <a:off x="4250160" y="2880000"/>
              <a:ext cx="228960" cy="97668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5" name="_s14347"/>
            <p:cNvCxnSpPr>
              <a:stCxn id="256" idx="0"/>
              <a:endCxn id="252" idx="2"/>
            </p:cNvCxnSpPr>
            <p:nvPr/>
          </p:nvCxnSpPr>
          <p:spPr>
            <a:xfrm flipH="1" flipV="1" rot="5400000">
              <a:off x="3274560" y="2880720"/>
              <a:ext cx="228960" cy="97524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7" name="_s14345"/>
            <p:cNvCxnSpPr>
              <a:stCxn id="258" idx="0"/>
              <a:endCxn id="252" idx="2"/>
            </p:cNvCxnSpPr>
            <p:nvPr/>
          </p:nvCxnSpPr>
          <p:spPr>
            <a:xfrm flipH="1" flipV="1" rot="5400000">
              <a:off x="2299320" y="1905480"/>
              <a:ext cx="228960" cy="292572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108000" y="2292480"/>
              <a:ext cx="737964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d47d"/>
                  </a:solidFill>
                  <a:latin typeface="Geneva"/>
                </a:rPr>
                <a:t>PROCESSUS EXTERNE DE LEGITIMATION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2" name="_s14343"/>
            <p:cNvSpPr/>
            <p:nvPr/>
          </p:nvSpPr>
          <p:spPr>
            <a:xfrm>
              <a:off x="2151360" y="2768400"/>
              <a:ext cx="3449880" cy="48564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Geneva"/>
                </a:rPr>
                <a:t>ACTIONS MENEES</a:t>
              </a:r>
              <a:endParaRPr b="0" lang="en-US" sz="13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Geneva"/>
                </a:rPr>
                <a:t>PAR LE COLLECTIF</a:t>
              </a:r>
              <a:endParaRPr b="0" lang="en-US" sz="13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8" name="_s14344"/>
            <p:cNvSpPr/>
            <p:nvPr/>
          </p:nvSpPr>
          <p:spPr>
            <a:xfrm>
              <a:off x="108000" y="3483000"/>
              <a:ext cx="168408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FAIRE EVOLU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 CADRE LEGA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6" name="_s14346"/>
            <p:cNvSpPr/>
            <p:nvPr/>
          </p:nvSpPr>
          <p:spPr>
            <a:xfrm>
              <a:off x="2059200" y="3483000"/>
              <a:ext cx="168372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TERPELL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S ACTEUR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U DROI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B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4" name="_s14348"/>
            <p:cNvSpPr/>
            <p:nvPr/>
          </p:nvSpPr>
          <p:spPr>
            <a:xfrm>
              <a:off x="4009680" y="3483000"/>
              <a:ext cx="168372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RECOURI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 UN TIER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(EXPERT)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1" name="_s14350"/>
            <p:cNvSpPr/>
            <p:nvPr/>
          </p:nvSpPr>
          <p:spPr>
            <a:xfrm>
              <a:off x="5960520" y="3483000"/>
              <a:ext cx="168408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CRE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 </a:t>
              </a: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UN NOUVEL ESPA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E LEGITIM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E L'AC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COLLECTIV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7240" y="5451480"/>
            <a:ext cx="602820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Times New Roman"/>
              </a:rPr>
              <a:t>Agir dans la légitimité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Times New Roman"/>
              </a:rPr>
              <a:t>(cadre légal ou action collective auto-légitimée)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7150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 - Faire évoluer le cadre légal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ser un autre cadre légal reconnu (ex : passer du cadre ‘logement’ au cadre ‘conservation du patrimoine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ser la jurisprudence - faire jurisprud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éer un nouveau cadre législatif (via par exemple un nouvel arrêté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difier la Loi via des pressions politiques (utiliser les medi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 - Interpeller les acteurs du droit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ler à la rencontre de la police loca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nsibiliser les fonctionnaires des administrations sur leurs marges de manœuvre face à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difier le comportement des administrations en leur montrant qu’on connaît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nsibiliser des tiers (voisins, personnalités connu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ler à la rencontre des acteurs ‘faiseurs’ de droit : les parlementaires (niveau national et même niveau européen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 - Recourir à un tiers (expert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 acteur du droit (avocat, juriste,…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e association qui bénéficie d’une certaine notoriété auprès des tribunau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 militants bénéficiant d’une double casquette (par exemple ayant aussi une responsabilité politique au niveau loc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e simple personne ‘extérieure’ qui permet par sa présence de changer les comportements (d’une administration) ou les rapports de for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4568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D - Créer un nouvel espace de légitimation de l’action collective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parfois illégale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7386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nter d’instaurer des procédures de traitement collectif des doss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raindre les tribunaux à se positionner face à l’action collec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 tout a été tenté sans succès, admettre l’instauration de la désobéissance civiq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5029200"/>
            <a:ext cx="4496040" cy="119124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= Permettre aux plus précaires qui ne se seraient pas battus seuls d’être portés par le group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4100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3805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estions à prendre…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… ou à laiss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864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Difficile parfois de parler de légitimité acquise parce que la Loi ne change pas les mentalités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En matière de légitimation, rien n’est jamais acquis, jamais sûr, même après des mois de lutte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Comment légitimer les zones de non droit? (les sans-papiers, les illégaux)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Peut-on légitimer une action en utilisant les ‘vides juridiques’ à son profit ?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oordonnées des partenair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1484280"/>
            <a:ext cx="3311640" cy="2160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1700280"/>
            <a:ext cx="29415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JURISTES SOLIDARITES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5, Rue de la Révolution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93100 Montreuil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Franc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3/1/48.51.39.91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Jur-sol@globenet.org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11640" y="1484280"/>
            <a:ext cx="3384720" cy="2160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3933720"/>
            <a:ext cx="3384720" cy="2089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3933720"/>
            <a:ext cx="3311640" cy="2089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1700280"/>
            <a:ext cx="331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HABITAT &amp; PARTICIPATION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Place des Peintres 1 Bte 4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1348 Louvain-la-Neuv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Belgiqu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2/10/45.06.04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hep@tvcablenet.b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7200" y="4218120"/>
            <a:ext cx="323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CAPODARCO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Via Lungro, 3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00178 Roma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9/06/712.800.80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mrosariacrucioli@katamail.com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076640"/>
            <a:ext cx="2651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7d47d"/>
                </a:solidFill>
                <a:latin typeface="Arial"/>
              </a:rPr>
              <a:t>FUNDACION IBEROAMERICANA DE DERECHOS HUMANOS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Universitad Pablo de Olavide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Carretera de Utrera, km 1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41013 Sevilla - Espana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T: +34/954/34.89.23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Eventos-2003@yahoo.es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80" y="6237360"/>
            <a:ext cx="7761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4f9d4f"/>
                </a:solidFill>
                <a:latin typeface="Arial"/>
              </a:rPr>
              <a:t>Travaux réalisés avec le soutien du programme européen SOCRATES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tapes de la démarch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922200"/>
            <a:ext cx="54403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éfini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ément(s) déclencheur(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’identific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e mobilisation inter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e mobilisation exter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765520" y="1598760"/>
            <a:ext cx="27208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éfinitions (1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Ce qui est légitime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Just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conforme à l’équité, au droit natur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Perm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admissible, justifié par le bon se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Légal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juridiquement fondé, consacré par la Loi ou reconnu conforme au dro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Dictionnaire Petit Robert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éfinitions (2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Se légitimer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sser d’un sentiment d’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injustic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identifié collectivement à des actions collectives pour faire face à un problème de droit (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illégalité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) identifié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648320"/>
            <a:ext cx="1904760" cy="182880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4190400"/>
            <a:ext cx="1905120" cy="1600200"/>
          </a:xfrm>
          <a:prstGeom prst="triangle">
            <a:avLst>
              <a:gd name="adj" fmla="val 53245"/>
            </a:avLst>
          </a:pr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648320"/>
            <a:ext cx="685800" cy="1143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441972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0292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86728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6960" y="4308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INJUST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59640" y="49197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06240" y="5680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ILLEG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30760" y="4267080"/>
            <a:ext cx="159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NATURE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2520" y="5486400"/>
            <a:ext cx="11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lément(s) déclencheur(s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33520" y="2308320"/>
            <a:ext cx="4946760" cy="2278080"/>
            <a:chOff x="1433520" y="2308320"/>
            <a:chExt cx="4946760" cy="2278080"/>
          </a:xfrm>
        </p:grpSpPr>
        <p:cxnSp>
          <p:nvCxnSpPr>
            <p:cNvPr id="214" name="_s8203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4430520" y="2847600"/>
              <a:ext cx="229320" cy="1276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17" name="_s8201"/>
            <p:cNvCxnSpPr>
              <a:stCxn id="218" idx="0"/>
              <a:endCxn id="216" idx="2"/>
            </p:cNvCxnSpPr>
            <p:nvPr/>
          </p:nvCxnSpPr>
          <p:spPr>
            <a:xfrm flipH="1" flipV="1" rot="5400000">
              <a:off x="3153600" y="2847960"/>
              <a:ext cx="229320" cy="1276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19" name=""/>
            <p:cNvSpPr/>
            <p:nvPr/>
          </p:nvSpPr>
          <p:spPr>
            <a:xfrm>
              <a:off x="1571760" y="2308320"/>
              <a:ext cx="480060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 </a:t>
              </a: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= SENTIMENT D'INJUSTICE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6" name="_s8199"/>
            <p:cNvSpPr/>
            <p:nvPr/>
          </p:nvSpPr>
          <p:spPr>
            <a:xfrm>
              <a:off x="3157560" y="2914920"/>
              <a:ext cx="1498680" cy="457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JUSTICE VECU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ROIT NATUR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8" name="_s8200"/>
            <p:cNvSpPr/>
            <p:nvPr/>
          </p:nvSpPr>
          <p:spPr>
            <a:xfrm>
              <a:off x="1433520" y="3600720"/>
              <a:ext cx="2394000" cy="98568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PERSONN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Ex :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J'ai été expulsé de mon logemen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par mon propriétair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5" name="_s8202"/>
            <p:cNvSpPr/>
            <p:nvPr/>
          </p:nvSpPr>
          <p:spPr>
            <a:xfrm>
              <a:off x="3986280" y="3600720"/>
              <a:ext cx="2394000" cy="98568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OLLECTIF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Ex :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Ils sont en trai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e démolir notre par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I = identifica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0920" y="2205000"/>
            <a:ext cx="7235280" cy="2465280"/>
            <a:chOff x="250920" y="2205000"/>
            <a:chExt cx="7235280" cy="2465280"/>
          </a:xfrm>
        </p:grpSpPr>
        <p:cxnSp>
          <p:nvCxnSpPr>
            <p:cNvPr id="222" name="_s9227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4445640" y="2731680"/>
              <a:ext cx="229320" cy="131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25" name="_s9225"/>
            <p:cNvCxnSpPr>
              <a:stCxn id="226" idx="0"/>
              <a:endCxn id="224" idx="2"/>
            </p:cNvCxnSpPr>
            <p:nvPr/>
          </p:nvCxnSpPr>
          <p:spPr>
            <a:xfrm flipH="1" flipV="1" rot="5400000">
              <a:off x="3134520" y="2730960"/>
              <a:ext cx="229320" cy="1313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27" name=""/>
            <p:cNvSpPr/>
            <p:nvPr/>
          </p:nvSpPr>
          <p:spPr>
            <a:xfrm>
              <a:off x="250920" y="2205000"/>
              <a:ext cx="723528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DE L'INJUSTICE ET DU GROUPE CIBLE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4" name="_s9223"/>
            <p:cNvSpPr/>
            <p:nvPr/>
          </p:nvSpPr>
          <p:spPr>
            <a:xfrm>
              <a:off x="3438720" y="2816280"/>
              <a:ext cx="931320" cy="457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JUSTI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6" name="_s9224"/>
            <p:cNvSpPr/>
            <p:nvPr/>
          </p:nvSpPr>
          <p:spPr>
            <a:xfrm>
              <a:off x="1357200" y="3502080"/>
              <a:ext cx="2470680" cy="1168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IDENTIF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'UN SENTIMENT COMMU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ou comment pass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d'un sentiment/vécu individu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à un sentiment/vécu collectif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3" name="_s9226"/>
            <p:cNvSpPr/>
            <p:nvPr/>
          </p:nvSpPr>
          <p:spPr>
            <a:xfrm>
              <a:off x="3980520" y="3502080"/>
              <a:ext cx="2471040" cy="1168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DENTIF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U GROUPE CIBLE CONCERN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ou qui se reconnaî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ans le problèm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'injustice énoncé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II = légitimer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ar la mobilisation inter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91920" y="5451480"/>
            <a:ext cx="483948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Passer d’un sentiment d’injustic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à l’identification du problème de 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7150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58920" y="2278080"/>
            <a:ext cx="7263720" cy="2190600"/>
            <a:chOff x="358920" y="2278080"/>
            <a:chExt cx="7263720" cy="2190600"/>
          </a:xfrm>
        </p:grpSpPr>
        <p:cxnSp>
          <p:nvCxnSpPr>
            <p:cNvPr id="232" name="_s10256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5105880" y="2157120"/>
              <a:ext cx="229320" cy="24598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35" name="_s10254"/>
            <p:cNvCxnSpPr>
              <a:stCxn id="236" idx="0"/>
              <a:endCxn id="234" idx="2"/>
            </p:cNvCxnSpPr>
            <p:nvPr/>
          </p:nvCxnSpPr>
          <p:spPr>
            <a:xfrm flipV="1">
              <a:off x="3990960" y="3272400"/>
              <a:ext cx="1080" cy="229320"/>
            </a:xfrm>
            <a:prstGeom prst="bentConnector2">
              <a:avLst/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37" name="_s10252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2647800" y="2157840"/>
              <a:ext cx="229320" cy="24584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358920" y="2278080"/>
              <a:ext cx="695052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d47d"/>
                  </a:solidFill>
                  <a:latin typeface="Geneva"/>
                </a:rPr>
                <a:t>PROCESSUS INTERNE DE LEGITIMATION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4" name="_s10250"/>
            <p:cNvSpPr/>
            <p:nvPr/>
          </p:nvSpPr>
          <p:spPr>
            <a:xfrm>
              <a:off x="2695680" y="2793960"/>
              <a:ext cx="2589840" cy="4791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Geneva"/>
                </a:rPr>
                <a:t>ACTIONS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Geneva"/>
                </a:rPr>
                <a:t>MENEES PAR LE COLLECTIF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8" name="_s10251"/>
            <p:cNvSpPr/>
            <p:nvPr/>
          </p:nvSpPr>
          <p:spPr>
            <a:xfrm>
              <a:off x="35892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GITIMER LE GROUP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EN TANT QUE T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6" name="_s10253"/>
            <p:cNvSpPr/>
            <p:nvPr/>
          </p:nvSpPr>
          <p:spPr>
            <a:xfrm>
              <a:off x="281736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PPRENDRE A FORMUL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SES PROPRES ALTERNATIVE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B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3" name="_s10255"/>
            <p:cNvSpPr/>
            <p:nvPr/>
          </p:nvSpPr>
          <p:spPr>
            <a:xfrm>
              <a:off x="527580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GITIM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SA REVEND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MALGR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S RAPPORTS DE FOR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 - Légitimer le groupe en tant que tel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duire le langage juridique souvent complexe en langage sim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 former à la compréhension des textes de dr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er en interne un procédure, un règlement intérie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vailler sur l’image des personnes (si image négative = plus facile de violer leurs droits élémentair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pprendre à légitimer son expérience face à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 - Apprendre à formuler ses propres alternatives face à un problèm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979640"/>
            <a:ext cx="738648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er ses solutions face à un problème et les médiatis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émontrer par l’action que c’est possible lorsque le discours veut démontrer l’impossibilité d’une proposi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ier des personnes relais qui seront capables de défendre ces alternatives face aux autorités compéten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21:33:21Z</dcterms:created>
  <dc:creator>yves</dc:creator>
  <dc:description/>
  <dc:language>en-US</dc:language>
  <cp:lastModifiedBy>pascale</cp:lastModifiedBy>
  <dcterms:modified xsi:type="dcterms:W3CDTF">2006-12-19T14:25:09Z</dcterms:modified>
  <cp:revision>14</cp:revision>
  <dc:subject/>
  <dc:title>Comment légitimer ses revendications</dc:title>
</cp:coreProperties>
</file>