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691-2285-4AEE-9EE3-50EE00C7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7B5-B306-4C4C-808E-A56EAF80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97F-ADE4-4EA1-BE44-DE786E89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F10-76AA-4074-AB1E-B37496BE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A223-CC35-4498-B7A9-9CBD96B7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F9C9-63C2-4091-8B44-FE23DF9A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8D17-B131-4762-89A3-5F176F52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673F-0F61-4AD3-80CE-3C4E0EFB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AC2E-D4FF-41BA-9C58-8973F0DC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6E8C-BD52-4C13-9560-2DF8B22B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F1C6-9469-495D-A63F-EC537D1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C62-80E1-4CF8-8906-5ED3835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21CB-53BF-45F8-8DD1-F1DF6C70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8C0-49AE-46B6-8755-B17F4084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371D-42D2-4A54-AE06-F1AECC1B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D729-AF25-45B9-B4C7-1F7ECFC2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F0C6-70B0-4B5B-BBDA-974C064A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F0A-CEED-488C-AC58-8E12B181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971-03FD-42C9-A97C-5733631A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725-7DF3-4DCB-94EF-695BB359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DA4-FD7B-4231-9FC7-F9640034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B6C-3696-4CF3-9E60-6070F5B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00A-8FF9-475A-91BC-C907873A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856-83C5-463F-BD2A-235943B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C8D1-8897-4640-BF13-71EB29400E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78C4-C00B-453C-9706-3F17DA6793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Arial"/>
              </a:rPr>
              <a:t>Méthodologie d’accompagneme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66"/>
                </a:solidFill>
                <a:latin typeface="Arial"/>
              </a:rPr>
              <a:t>D’une action collectiv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080" y="1413000"/>
            <a:ext cx="6781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852640"/>
            <a:ext cx="1511280" cy="3745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ynamiques action collectiv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637000"/>
            <a:ext cx="810108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66699"/>
                </a:solidFill>
                <a:latin typeface="Arial"/>
              </a:rPr>
              <a:t>ASPECTS PRAT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éunion 1X par mois à jour fixe (durant 2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éunion commence par tour de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nimation en tandem (animateur / personne ressource niveau juridiqu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ccompagnement individuel et collecti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Outils d’information - form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ynamiques action collective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2637000"/>
            <a:ext cx="8101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666699"/>
                </a:solidFill>
                <a:uFillTx/>
                <a:latin typeface="Arial"/>
              </a:rPr>
              <a:t>SIX ETA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Catharsis du grou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Objectiver Expliciter Dégager Démontr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Identifier le désir pour mobili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Passer à l’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Maintenir la mobili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Evaluer collecti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I. CATHAR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276640"/>
            <a:ext cx="806436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Permettre l’expression de chacun par rapport au vécu – place au ressenti, même négatif, même de manière relativement viol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Accepter de représenter la structure sociale dans son ensemble - accepter de recevoir des expressions parfois violentes, agress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II. OBJECTIVER - …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205000"/>
            <a:ext cx="810108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 : Objectiver les situations – Expliciter les enjeux (ind. Coll.) – Dégager des pistes – Démontrer qu’il est possible d’agir collecti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 : Donner une vision du jeu social, des contextes locaux et logiques d’acteurs – Instaurer des instances d’expression – Dégager du collectif à partir des cas individu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Méthodo = voir tableau « AGIR LE COLLECTIF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III. IDENTIFIER LE DES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637000"/>
            <a:ext cx="81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2852640"/>
            <a:ext cx="1150920" cy="1079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440" y="2492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66"/>
                </a:solidFill>
                <a:latin typeface="Arial"/>
              </a:rPr>
              <a:t>BESO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3440" y="357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66"/>
                </a:solidFill>
                <a:latin typeface="Arial"/>
              </a:rPr>
              <a:t>DES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60360" y="36385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66"/>
                </a:solidFill>
                <a:latin typeface="Arial"/>
              </a:rPr>
              <a:t>OPPORTUN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4869000"/>
            <a:ext cx="65707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 u="sng">
                <a:solidFill>
                  <a:srgbClr val="003366"/>
                </a:solidFill>
                <a:uFillTx/>
                <a:latin typeface="Arial"/>
              </a:rPr>
              <a:t>Exemples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ésir de vivre décem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éfense des intérêts individuels / collectif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Besoin / Désir de reconnaissance soci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4720" y="3024360"/>
            <a:ext cx="395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3366"/>
                </a:solidFill>
                <a:uFillTx/>
                <a:latin typeface="Arial"/>
              </a:rPr>
              <a:t>Rôle de l’accompagnant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Identifier le dés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(voire l’opportunité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Qui permettront une réelle mobilis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349360"/>
            <a:ext cx="4103640" cy="18003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IV. PASSER A L’A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637000"/>
            <a:ext cx="8388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Dégager avec le groupe les actions à mettre en œuvre. </a:t>
            </a:r>
            <a:r>
              <a:rPr b="0" lang="fr-BE" sz="2800" spc="-1" strike="noStrike">
                <a:solidFill>
                  <a:srgbClr val="ff0066"/>
                </a:solidFill>
                <a:latin typeface="Arial"/>
              </a:rPr>
              <a:t>Méthodologie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Des objectifs simples, communs, non conflictu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Des réalisations rapides, concrètes, symboliques et motiva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 : Développer des solidarités de base entre les personnes – Créer la cohésion du groupe via l’action – accepter de lâcher prise (ne pas savoir où l’on va mais y aller ensemb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V. MAINTENIR LA MOBI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2349360"/>
            <a:ext cx="838836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: </a:t>
            </a:r>
            <a:r>
              <a:rPr b="1" lang="fr-BE" sz="2400" spc="-1" strike="noStrike">
                <a:solidFill>
                  <a:srgbClr val="666699"/>
                </a:solidFill>
                <a:latin typeface="Arial"/>
              </a:rPr>
              <a:t>Maintenir la mobilisation du collectif sur le long terme (!!! : cycle de vie des dynamiques 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: </a:t>
            </a:r>
            <a:r>
              <a:rPr b="1" lang="fr-BE" sz="2400" spc="-1" strike="noStrike">
                <a:solidFill>
                  <a:srgbClr val="666699"/>
                </a:solidFill>
                <a:latin typeface="Arial"/>
              </a:rPr>
              <a:t>Travailler de manière plus « pédagogique » avec le groupe, càd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méthodo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Travailler les relations et les conflits internes inhérents au collecti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Travailler la notion de légitimité du groupe (en interne) et de l’action (vàv de l’extérieu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Redéterminer en permanence les enjeux globau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Travailler les notions de risques et d’incertitude liés à l’action colle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V. MAINTENIR LA MOBI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3493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421000"/>
            <a:ext cx="2879640" cy="3988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66"/>
                </a:solidFill>
                <a:latin typeface="Arial"/>
              </a:rPr>
              <a:t>Actions péda inter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2421000"/>
            <a:ext cx="3095640" cy="3988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66"/>
                </a:solidFill>
                <a:latin typeface="Arial"/>
              </a:rPr>
              <a:t>Actions péda exter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2637000"/>
            <a:ext cx="0" cy="396072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8200" y="2924280"/>
            <a:ext cx="412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Elaborer stratégie d’ensemble au-delà des actions ponctuel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Etre attentifs aux relations et conflits (le « quart d’heure suisse »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Faire accepter / prendre conscience des risques et incertitudes de l’action colle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Rendre les personnes actr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onner au groupe le temps de maturation … de découverte de sa propre légitimit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2924280"/>
            <a:ext cx="39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réer une identité collective en identifiant une « adversité commune 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Identifier les acteurs clés pour un impact maximal (politiques,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Garder une ouverture du groupe pour de nouveaux arrivants – alli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évelopper la capacité d’anticipation – de long ter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Informer, communiquer sans jeter de l’huile sur le fe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VI. EVALUATION COLL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205000"/>
            <a:ext cx="810108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Donner au groupe un temps de recul face à ses actions, ses résultats pour réidentifier son/ses objectif(s) global(aux) et pour réorienter sa stratégie coll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Faire accepter le principe d’incertitude ou de risques – Faire accepter cycles de projet – Faire accepter l’implication variable des personnes impliqu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Nos coordonné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82440" y="2441520"/>
            <a:ext cx="294156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0066"/>
                </a:solidFill>
                <a:latin typeface="Arial"/>
              </a:rPr>
              <a:t>JURISTES SOLIDARI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5, Rue de la Révolu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93100 Montreui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T : +33/1/48.51.39.9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Jur-sol@globene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421000"/>
            <a:ext cx="3313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0066"/>
                </a:solidFill>
                <a:latin typeface="Arial"/>
              </a:rPr>
              <a:t>HABITAT &amp; PARTICIP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Place des Peintres 1 Bte 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1348 Louvain-la-Neuv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Belgiqu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T : +32/10/45.06.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hep@tvcablenet.b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6360" y="6113520"/>
            <a:ext cx="7761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4f9d4f"/>
                </a:solidFill>
                <a:latin typeface="Arial"/>
              </a:rPr>
              <a:t>Travaux réalisés avec le soutien du programme européen SOCRA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25200" y="4336920"/>
            <a:ext cx="323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0066"/>
                </a:solidFill>
                <a:latin typeface="Arial"/>
              </a:rPr>
              <a:t>CAPODARC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Via Lungro,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00178 Rom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Ital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T : +39/06/712.800.8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mrosariacrucioli@katamail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221000"/>
            <a:ext cx="2651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66"/>
                </a:solidFill>
                <a:latin typeface="Arial"/>
              </a:rPr>
              <a:t>FUNDACION IBEROAMERICANA DE DERECHOS HUMAN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Universitad Pablo de Olavid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Carretera de Utrera, km 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41013 Sevilla - Espan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T: +34/954/34.89.2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Eventos-2003@yahoo.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349360"/>
            <a:ext cx="3311640" cy="18716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349360"/>
            <a:ext cx="3384720" cy="18716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4292640"/>
            <a:ext cx="3311640" cy="17287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4292640"/>
            <a:ext cx="3384720" cy="17287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Théorie et Prati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02920" y="3284280"/>
            <a:ext cx="6831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3366"/>
                </a:solidFill>
                <a:latin typeface="Arial"/>
              </a:rPr>
              <a:t>Etymologie et définition(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3366"/>
                </a:solidFill>
                <a:latin typeface="Arial"/>
              </a:rPr>
              <a:t>Quelques notions clé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3366"/>
                </a:solidFill>
                <a:latin typeface="Arial"/>
              </a:rPr>
              <a:t>Méthodologi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Etymolo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3357720"/>
            <a:ext cx="7694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Etymologiquement, le vocable « </a:t>
            </a: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accompagnement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 » vient du latin « cum-panem » qui signifie « </a:t>
            </a: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celui qui mange du pain avec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 » et qui donnera le mot « copain » en français moder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é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81000" y="2512800"/>
            <a:ext cx="7478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66"/>
                </a:solidFill>
                <a:latin typeface="Arial"/>
              </a:rPr>
              <a:t>Accompagner =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« </a:t>
            </a:r>
            <a:r>
              <a:rPr b="0" i="1" lang="fr-BE" sz="2800" spc="-1" strike="noStrike">
                <a:solidFill>
                  <a:srgbClr val="003366"/>
                </a:solidFill>
                <a:latin typeface="Arial"/>
              </a:rPr>
              <a:t>se joindre à quelqu’un pour aller où il va en même temps que lui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 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66"/>
                </a:solidFill>
                <a:latin typeface="Arial"/>
              </a:rPr>
              <a:t>Social =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du latin ‘socius’ : « </a:t>
            </a:r>
            <a:r>
              <a:rPr b="0" i="1" lang="fr-BE" sz="2800" spc="-1" strike="noStrike">
                <a:solidFill>
                  <a:srgbClr val="003366"/>
                </a:solidFill>
                <a:latin typeface="Arial"/>
              </a:rPr>
              <a:t>compagnon. Relatif à un groupe d’individus, d’hommes, conçu comme une réalité distincte. Relatif aux relations entre les personnes, au groupe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.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9440" y="580536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66"/>
                </a:solidFill>
                <a:latin typeface="Arial"/>
              </a:rPr>
              <a:t>(Dictionnaire Petit Rober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EUX REGIST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02920" y="2433240"/>
            <a:ext cx="3086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SOCIO TECHNI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92920" y="236844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2924280"/>
            <a:ext cx="7201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924280"/>
            <a:ext cx="0" cy="27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78440" y="242100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SOLIDAI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95480" y="3213000"/>
            <a:ext cx="354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e l’ordre de la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res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onduit par des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rocédu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entré sur la résolution de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roblèmes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et sur des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objectifs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à atteind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Typologie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de publics et de problèmes à résoud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1840" y="3213000"/>
            <a:ext cx="398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e l’ordre de la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rel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onduit par des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rocess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entré sur les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évolutions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des person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Communauté de situ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Effet « boule de neige »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entre les personnes (l’aidé devient l’aid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0760" y="5877000"/>
            <a:ext cx="7653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4f9d4f"/>
                </a:solidFill>
                <a:latin typeface="Arial"/>
              </a:rPr>
              <a:t>Double registre valable tant pour l’accompagnement individuel que pour l’accompagnement d’un collectif 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AGIR LE COLLECTI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42920" y="2433240"/>
            <a:ext cx="3446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Connaître et comprendre les person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92920" y="236844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284640"/>
            <a:ext cx="7201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2924280"/>
            <a:ext cx="0" cy="338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242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Construire le collectif à partir des individ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95480" y="3430440"/>
            <a:ext cx="354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Aller chercher ce qui existe derrière les étiquet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Prendre ses distances face à ses propres références culturel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Identifier les forces du group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Temps d’analyse et de mise en contex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11840" y="3476520"/>
            <a:ext cx="39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Proposer mise en commun des expériences individuel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réer les conditions pour une expression colle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Travailler avec des groupes de « pairs » (être entre so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ortes d’entrée individu-elles pour ouvrir à la dimension colle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TRIANGLE DE MOBI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634920" y="256500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Beso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92920" y="236844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13000"/>
            <a:ext cx="2519280" cy="2232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5170320"/>
            <a:ext cx="1440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Dés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5243400"/>
            <a:ext cx="1800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Opportunit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1520" y="6014880"/>
            <a:ext cx="6805440" cy="3988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66"/>
                </a:solidFill>
                <a:latin typeface="Arial"/>
              </a:rPr>
              <a:t>Mobilisation des individus – Mobilisation des collectif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UNE METHODOLO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00000" y="2708280"/>
            <a:ext cx="7693200" cy="3384720"/>
          </a:xfrm>
          <a:prstGeom prst="rect">
            <a:avLst/>
          </a:prstGeom>
          <a:noFill/>
          <a:ln w="9360">
            <a:solidFill>
              <a:srgbClr val="99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100" spc="-1" strike="noStrike">
                <a:solidFill>
                  <a:srgbClr val="ff0066"/>
                </a:solidFill>
                <a:latin typeface="Arial"/>
              </a:rPr>
              <a:t>En Belgique</a:t>
            </a:r>
            <a:r>
              <a:rPr b="0" lang="fr-BE" sz="3100" spc="-1" strike="noStrike">
                <a:solidFill>
                  <a:srgbClr val="003366"/>
                </a:solidFill>
                <a:latin typeface="Arial"/>
              </a:rPr>
              <a:t>, « Un Toit des Droits » à Charleroi et le « Groupe d’Action Droit au Logement » à Liège met en place des dynamiques collectives de stratégies d’action pour le droit au logement.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ynamiques action collectiv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2781360"/>
            <a:ext cx="8101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Arial"/>
              </a:rPr>
              <a:t>CONTEX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Personnes mal logées, rencontrant ou ayant rencontré des problèmes de lo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Dépasser la limite des problèmes individuels : passer d’une réponse individuelle à une action coll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9:07:13Z</dcterms:created>
  <dc:creator>pascale</dc:creator>
  <dc:description/>
  <dc:language>en-US</dc:language>
  <cp:lastModifiedBy>Pascale</cp:lastModifiedBy>
  <dcterms:modified xsi:type="dcterms:W3CDTF">2007-02-05T14:50:59Z</dcterms:modified>
  <cp:revision>46</cp:revision>
  <dc:subject/>
  <dc:title>Accompagnement social</dc:title>
</cp:coreProperties>
</file>